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9B9-B76A-4626-9A5D-6D5D67D0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D30A-A2CD-4002-9850-F08E7E85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6E4-E0F4-454E-8D6F-AF504B46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94A-10FD-47BC-A6C2-EAA3D266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87A-EDB0-49AA-A6C7-8A3C9C37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682-E67F-43EA-9B62-11528935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79F-EFDA-4392-81D3-38A9D8CB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F5C-6ED0-401E-A29F-1A0686B5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F9A-81A6-4925-B55B-EE0E967D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FE9-163F-44DC-8C01-E642CF4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91C-7189-41F9-8933-9A9A5A79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58D-65D0-440D-A0AD-D694203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9C25-C324-422A-BC64-00FBF1E19B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16:00 to 17:0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t. 9:00 to 10:30 h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 Alan Stewart N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-Chair Bill Kautz US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5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CM Arlington, Virginia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6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ch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ssional WG4/2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une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NAV7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LA HQ, Paris,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1 TOR for WG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7/3 WRC07 re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 5/13/15 IWRAP SG12 Liaison 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LA World-Wide Radio Communication Plan (IALA WWRC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ill we work towards drafting the IALA WWRC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future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current Maritime Radio Communic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we kee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will become redunda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lated bodies and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reference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WG4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ALA FTP site for posting doc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 refle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eg timescales for input do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ork on IALA WWR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liaison note respo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ny proposed liaison n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52600" cy="76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848720" y="685800"/>
            <a:ext cx="5522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33:14Z</dcterms:created>
  <dc:creator>LiamC</dc:creator>
  <dc:description/>
  <dc:language>en-US</dc:language>
  <cp:lastModifiedBy>LiamC</cp:lastModifiedBy>
  <dcterms:modified xsi:type="dcterms:W3CDTF">2008-09-18T10:51:15Z</dcterms:modified>
  <cp:revision>27</cp:revision>
  <dc:subject/>
  <dc:title>PowerPoint Presentation</dc:title>
</cp:coreProperties>
</file>